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B0F-9C83-4EB2-929A-4B29FE82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314-14F3-415A-B84F-E6B5BE0D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A87-CD92-4194-BCCA-DAE48CBE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0425-D784-40EE-866C-41744536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5517-FA21-42D0-8E7E-3B455713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20C7-5BC4-432F-AED5-CA76C06B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2BED-0287-44E2-A9CB-7DAE8150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6F0B-4862-419D-9710-5594844E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EE28-340B-457A-AFD7-0F6A01AB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28BE-642A-47D0-AFAE-B42255C8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1DB5-8029-4E34-A3F3-313AEB9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D4E-AA36-4F4F-AF4A-D3296314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2907-91D1-4CED-94EC-0A9B7ABE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93CA-38DB-422A-86A6-2A134C5F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4A6-9C48-4B55-B397-35F20465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8093-51DB-4AAB-8D43-3D2A8434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9D5-F235-4ACE-8291-341A06D9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E2D-361C-470B-9CCA-BD145B1A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5AB-F1D8-4CA7-BFF3-6211D880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650-1621-456C-81CD-3D487DC5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CDA-DB06-4E85-B779-2E008885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46E3-F62D-4605-A76E-11A722D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F9A-3229-442F-B6AE-844D365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ED7-2713-41CC-A9FB-3B0FE88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41A1-03DC-4DCC-88EA-555240E74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752A-C96E-4FE2-A0A1-3A080788FE9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«Задачи экологического содержания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на дроби и проценты»</a:t>
            </a:r>
            <a:br>
              <a:rPr sz="28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4920" y="1844280"/>
            <a:ext cx="3024360" cy="3097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6720" y="1844640"/>
            <a:ext cx="37432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Выполнила Зуева Н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учитель математики                                                                          МОУ Алешковская СО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2009 го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401940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дача №3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1985 года автомобильный парк мира увеличил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 66% и насчитывает  в настоящее время около 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н. автомобилей. При этом загрязнение атмосфе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 вине автотранспорта составляет более 40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щего загрязнения воздушного слоя плане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) Определите количество автомобилей 20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а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) Каков был % загрязнения атмосферы в это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иод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933720"/>
            <a:ext cx="1368360" cy="2159280"/>
          </a:xfrm>
          <a:custGeom>
            <a:avLst/>
            <a:gdLst>
              <a:gd name="textAreaLeft" fmla="*/ 88560 w 1368360"/>
              <a:gd name="textAreaRight" fmla="*/ 1279800 w 1368360"/>
              <a:gd name="textAreaTop" fmla="*/ 88560 h 2159280"/>
              <a:gd name="textAreaBottom" fmla="*/ 2070720 h 2159280"/>
            </a:gdLst>
            <a:ahLst/>
            <a:rect l="textAreaLeft" t="textAreaTop" r="textAreaRight" b="textAreaBottom"/>
            <a:pathLst>
              <a:path w="21600" h="34082">
                <a:moveTo>
                  <a:pt x="0" y="0"/>
                </a:moveTo>
                <a:lnTo>
                  <a:pt x="21600" y="0"/>
                </a:lnTo>
                <a:lnTo>
                  <a:pt x="21600" y="34082"/>
                </a:lnTo>
                <a:lnTo>
                  <a:pt x="0" y="34082"/>
                </a:lnTo>
                <a:close/>
              </a:path>
              <a:path fill="lightenLess" w="21600" h="340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082">
                <a:moveTo>
                  <a:pt x="21600" y="0"/>
                </a:moveTo>
                <a:lnTo>
                  <a:pt x="21600" y="34082"/>
                </a:lnTo>
                <a:lnTo>
                  <a:pt x="20200" y="32682"/>
                </a:lnTo>
                <a:lnTo>
                  <a:pt x="20200" y="1400"/>
                </a:lnTo>
                <a:close/>
              </a:path>
              <a:path fill="darkenLess" w="21600" h="34082">
                <a:moveTo>
                  <a:pt x="21600" y="34082"/>
                </a:moveTo>
                <a:lnTo>
                  <a:pt x="0" y="34082"/>
                </a:lnTo>
                <a:lnTo>
                  <a:pt x="1400" y="32682"/>
                </a:lnTo>
                <a:lnTo>
                  <a:pt x="20200" y="32682"/>
                </a:lnTo>
                <a:close/>
              </a:path>
              <a:path fill="lighten" w="21600" h="34082">
                <a:moveTo>
                  <a:pt x="0" y="340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682"/>
                </a:lnTo>
                <a:close/>
              </a:path>
              <a:path fill="darken" w="21600" h="34082">
                <a:moveTo>
                  <a:pt x="10800" y="2104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4082">
                <a:moveTo>
                  <a:pt x="11905" y="20522"/>
                </a:moveTo>
                <a:lnTo>
                  <a:pt x="11905" y="18564"/>
                </a:lnTo>
                <a:cubicBezTo>
                  <a:pt x="11905" y="17737"/>
                  <a:pt x="12236" y="17041"/>
                  <a:pt x="12837" y="17041"/>
                </a:cubicBezTo>
                <a:cubicBezTo>
                  <a:pt x="13968" y="17041"/>
                  <a:pt x="14865" y="15674"/>
                  <a:pt x="14865" y="14090"/>
                </a:cubicBezTo>
                <a:cubicBezTo>
                  <a:pt x="14865" y="11775"/>
                  <a:pt x="13011" y="10034"/>
                  <a:pt x="10800" y="10034"/>
                </a:cubicBezTo>
                <a:cubicBezTo>
                  <a:pt x="8589" y="10034"/>
                  <a:pt x="6918" y="11775"/>
                  <a:pt x="6918" y="14090"/>
                </a:cubicBezTo>
                <a:lnTo>
                  <a:pt x="8772" y="14090"/>
                </a:lnTo>
                <a:cubicBezTo>
                  <a:pt x="8772" y="12950"/>
                  <a:pt x="9695" y="12062"/>
                  <a:pt x="10800" y="12062"/>
                </a:cubicBezTo>
                <a:cubicBezTo>
                  <a:pt x="11905" y="12062"/>
                  <a:pt x="12837" y="12950"/>
                  <a:pt x="12837" y="14090"/>
                </a:cubicBezTo>
                <a:cubicBezTo>
                  <a:pt x="12837" y="14830"/>
                  <a:pt x="12367" y="15561"/>
                  <a:pt x="11905" y="15561"/>
                </a:cubicBezTo>
                <a:cubicBezTo>
                  <a:pt x="10800" y="15561"/>
                  <a:pt x="9695" y="17041"/>
                  <a:pt x="9695" y="18564"/>
                </a:cubicBezTo>
                <a:lnTo>
                  <a:pt x="9695" y="20522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90000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23981" y="10800"/>
                </a:lnTo>
                <a:lnTo>
                  <a:pt x="996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Решение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90756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 166%  -  500млн.                      б)    500млн.   - 40%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%  -     Хмлн.                              312,5млн. -   Х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66Х = 500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00                             500Х = 40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1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= 500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00 : 166                         Х = 40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312,5 : 500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= 5000 : 166                                  Х = 12500 :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= 312,5                                          Х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Количество автомобилей  в 1985 году было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0млн. (312,5млн.) штук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Процент загрязнения атмосферы составлял 25%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90000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23981" y="10800"/>
                </a:lnTo>
                <a:lnTo>
                  <a:pt x="996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98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08360" y="198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198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7080" y="1989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11600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708360" y="198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65164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317080" y="1989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дача №4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ичество автомобилей увеличилось на 200мл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тук и теперь составляет около 500млн. маш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рубка лесов идет гигантскими темпами, 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личилась на 1036га в сутки и составля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га в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) Определите какую часть составляе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парк от автопарка двадцатилетн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*) Определите какую часть составля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меющийся массив деревьев от зеле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сива 1985 год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3933720"/>
            <a:ext cx="1223640" cy="2087640"/>
          </a:xfrm>
          <a:custGeom>
            <a:avLst/>
            <a:gdLst>
              <a:gd name="textAreaLeft" fmla="*/ 79200 w 1223640"/>
              <a:gd name="textAreaRight" fmla="*/ 1144440 w 1223640"/>
              <a:gd name="textAreaTop" fmla="*/ 79200 h 2087640"/>
              <a:gd name="textAreaBottom" fmla="*/ 2008440 h 2087640"/>
            </a:gdLst>
            <a:ahLst/>
            <a:rect l="textAreaLeft" t="textAreaTop" r="textAreaRight" b="textAreaBottom"/>
            <a:pathLst>
              <a:path w="21600" h="36847">
                <a:moveTo>
                  <a:pt x="0" y="0"/>
                </a:moveTo>
                <a:lnTo>
                  <a:pt x="21600" y="0"/>
                </a:lnTo>
                <a:lnTo>
                  <a:pt x="21600" y="36847"/>
                </a:lnTo>
                <a:lnTo>
                  <a:pt x="0" y="36847"/>
                </a:lnTo>
                <a:close/>
              </a:path>
              <a:path fill="lightenLess" w="21600" h="368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847">
                <a:moveTo>
                  <a:pt x="21600" y="0"/>
                </a:moveTo>
                <a:lnTo>
                  <a:pt x="21600" y="36847"/>
                </a:lnTo>
                <a:lnTo>
                  <a:pt x="20200" y="35447"/>
                </a:lnTo>
                <a:lnTo>
                  <a:pt x="20200" y="1400"/>
                </a:lnTo>
                <a:close/>
              </a:path>
              <a:path fill="darkenLess" w="21600" h="36847">
                <a:moveTo>
                  <a:pt x="21600" y="36847"/>
                </a:moveTo>
                <a:lnTo>
                  <a:pt x="0" y="36847"/>
                </a:lnTo>
                <a:lnTo>
                  <a:pt x="1400" y="35447"/>
                </a:lnTo>
                <a:lnTo>
                  <a:pt x="20200" y="35447"/>
                </a:lnTo>
                <a:close/>
              </a:path>
              <a:path fill="lighten" w="21600" h="36847">
                <a:moveTo>
                  <a:pt x="0" y="36847"/>
                </a:moveTo>
                <a:lnTo>
                  <a:pt x="0" y="0"/>
                </a:lnTo>
                <a:lnTo>
                  <a:pt x="1400" y="1400"/>
                </a:lnTo>
                <a:lnTo>
                  <a:pt x="1400" y="35447"/>
                </a:lnTo>
                <a:close/>
              </a:path>
              <a:path fill="darken" w="21600" h="36847">
                <a:moveTo>
                  <a:pt x="10800" y="2242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6847">
                <a:moveTo>
                  <a:pt x="11905" y="21905"/>
                </a:moveTo>
                <a:lnTo>
                  <a:pt x="11905" y="19947"/>
                </a:lnTo>
                <a:cubicBezTo>
                  <a:pt x="11905" y="19120"/>
                  <a:pt x="12236" y="18424"/>
                  <a:pt x="12837" y="18424"/>
                </a:cubicBezTo>
                <a:cubicBezTo>
                  <a:pt x="13968" y="18424"/>
                  <a:pt x="14865" y="17057"/>
                  <a:pt x="14865" y="15473"/>
                </a:cubicBezTo>
                <a:cubicBezTo>
                  <a:pt x="14865" y="13158"/>
                  <a:pt x="13011" y="11417"/>
                  <a:pt x="10800" y="11417"/>
                </a:cubicBezTo>
                <a:cubicBezTo>
                  <a:pt x="8589" y="11417"/>
                  <a:pt x="6918" y="13158"/>
                  <a:pt x="6918" y="15473"/>
                </a:cubicBezTo>
                <a:lnTo>
                  <a:pt x="8772" y="15473"/>
                </a:lnTo>
                <a:cubicBezTo>
                  <a:pt x="8772" y="14333"/>
                  <a:pt x="9695" y="13445"/>
                  <a:pt x="10800" y="13445"/>
                </a:cubicBezTo>
                <a:cubicBezTo>
                  <a:pt x="11905" y="13445"/>
                  <a:pt x="12837" y="14333"/>
                  <a:pt x="12837" y="15473"/>
                </a:cubicBezTo>
                <a:cubicBezTo>
                  <a:pt x="12837" y="16213"/>
                  <a:pt x="12367" y="16944"/>
                  <a:pt x="11905" y="16944"/>
                </a:cubicBezTo>
                <a:cubicBezTo>
                  <a:pt x="10800" y="16944"/>
                  <a:pt x="9695" y="18424"/>
                  <a:pt x="9695" y="19947"/>
                </a:cubicBezTo>
                <a:lnTo>
                  <a:pt x="9695" y="21905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90000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23981" y="10800"/>
                </a:lnTo>
                <a:lnTo>
                  <a:pt x="9968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Решение.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500 – 200 =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00 : 300 = 1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,66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Автопарк в настоящее время составляет 1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парка двадцатилетней дав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44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 = 10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6 – 1036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6 : 20 = 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 528 =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2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0,00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Лесной массив составляет 0, 002 массива 1985 г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16360" y="2421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700360" y="5229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10800"/>
                </a:moveTo>
                <a:lnTo>
                  <a:pt x="26103" y="3794"/>
                </a:lnTo>
                <a:lnTo>
                  <a:pt x="26103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971640" y="6308640"/>
            <a:ext cx="936360" cy="549360"/>
          </a:xfrm>
          <a:custGeom>
            <a:avLst/>
            <a:gdLst>
              <a:gd name="textAreaLeft" fmla="*/ 35280 w 936360"/>
              <a:gd name="textAreaRight" fmla="*/ 901080 w 93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6806" h="21600">
                <a:moveTo>
                  <a:pt x="0" y="0"/>
                </a:moveTo>
                <a:lnTo>
                  <a:pt x="36806" y="0"/>
                </a:lnTo>
                <a:lnTo>
                  <a:pt x="36806" y="21600"/>
                </a:lnTo>
                <a:lnTo>
                  <a:pt x="0" y="21600"/>
                </a:lnTo>
                <a:close/>
              </a:path>
              <a:path fill="lightenLess" w="36806" h="21600">
                <a:moveTo>
                  <a:pt x="0" y="0"/>
                </a:moveTo>
                <a:lnTo>
                  <a:pt x="36806" y="0"/>
                </a:lnTo>
                <a:lnTo>
                  <a:pt x="35406" y="1400"/>
                </a:lnTo>
                <a:lnTo>
                  <a:pt x="1400" y="1400"/>
                </a:lnTo>
                <a:close/>
              </a:path>
              <a:path fill="darken" w="36806" h="21600">
                <a:moveTo>
                  <a:pt x="36806" y="0"/>
                </a:moveTo>
                <a:lnTo>
                  <a:pt x="36806" y="21600"/>
                </a:lnTo>
                <a:lnTo>
                  <a:pt x="35406" y="20200"/>
                </a:lnTo>
                <a:lnTo>
                  <a:pt x="35406" y="1400"/>
                </a:lnTo>
                <a:close/>
              </a:path>
              <a:path fill="darkenLess" w="36806" h="21600">
                <a:moveTo>
                  <a:pt x="36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06" y="20200"/>
                </a:lnTo>
                <a:close/>
              </a:path>
              <a:path fill="lighten" w="36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06" h="21600">
                <a:moveTo>
                  <a:pt x="11397" y="3794"/>
                </a:moveTo>
                <a:lnTo>
                  <a:pt x="25410" y="10800"/>
                </a:lnTo>
                <a:lnTo>
                  <a:pt x="11397" y="17806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164000" y="2924280"/>
            <a:ext cx="36036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дача №5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астоящее время каждый автомобиль за год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брасывает 3250 кг углекислого газа и друг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ксичных веществ, что составляет 40% общ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грязнения атмосферы. Кроме этого в воздух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сеивается  ежегодно 10 кг рез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) Найдите % загрязнения атмосфер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зиновой пыл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) Сколько вагонов потребовалось бы дл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ывоза этой резины, если вагон вмеща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тонн ( автомашин около 500 млн. штук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7400" y="6432480"/>
            <a:ext cx="1839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860640"/>
            <a:ext cx="1295280" cy="20894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2089440"/>
              <a:gd name="textAreaBottom" fmla="*/ 2005560 h 2089440"/>
            </a:gdLst>
            <a:ahLst/>
            <a:rect l="textAreaLeft" t="textAreaTop" r="textAreaRight" b="textAreaBottom"/>
            <a:pathLst>
              <a:path w="21600" h="34840">
                <a:moveTo>
                  <a:pt x="0" y="0"/>
                </a:moveTo>
                <a:lnTo>
                  <a:pt x="21600" y="0"/>
                </a:lnTo>
                <a:lnTo>
                  <a:pt x="21600" y="34840"/>
                </a:lnTo>
                <a:lnTo>
                  <a:pt x="0" y="34840"/>
                </a:lnTo>
                <a:close/>
              </a:path>
              <a:path fill="lightenLess" w="21600" h="348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840">
                <a:moveTo>
                  <a:pt x="21600" y="0"/>
                </a:moveTo>
                <a:lnTo>
                  <a:pt x="21600" y="34840"/>
                </a:lnTo>
                <a:lnTo>
                  <a:pt x="20200" y="33440"/>
                </a:lnTo>
                <a:lnTo>
                  <a:pt x="20200" y="1400"/>
                </a:lnTo>
                <a:close/>
              </a:path>
              <a:path fill="darkenLess" w="21600" h="34840">
                <a:moveTo>
                  <a:pt x="21600" y="34840"/>
                </a:moveTo>
                <a:lnTo>
                  <a:pt x="0" y="34840"/>
                </a:lnTo>
                <a:lnTo>
                  <a:pt x="1400" y="33440"/>
                </a:lnTo>
                <a:lnTo>
                  <a:pt x="20200" y="33440"/>
                </a:lnTo>
                <a:close/>
              </a:path>
              <a:path fill="lighten" w="21600" h="34840">
                <a:moveTo>
                  <a:pt x="0" y="348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440"/>
                </a:lnTo>
                <a:close/>
              </a:path>
              <a:path fill="darken" w="21600" h="34840">
                <a:moveTo>
                  <a:pt x="10800" y="2142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4840">
                <a:moveTo>
                  <a:pt x="11905" y="20901"/>
                </a:moveTo>
                <a:lnTo>
                  <a:pt x="11905" y="18943"/>
                </a:lnTo>
                <a:cubicBezTo>
                  <a:pt x="11905" y="18116"/>
                  <a:pt x="12236" y="17420"/>
                  <a:pt x="12837" y="17420"/>
                </a:cubicBezTo>
                <a:cubicBezTo>
                  <a:pt x="13968" y="17420"/>
                  <a:pt x="14865" y="16053"/>
                  <a:pt x="14865" y="14469"/>
                </a:cubicBezTo>
                <a:cubicBezTo>
                  <a:pt x="14865" y="12154"/>
                  <a:pt x="13011" y="10413"/>
                  <a:pt x="10800" y="10413"/>
                </a:cubicBezTo>
                <a:cubicBezTo>
                  <a:pt x="8589" y="10413"/>
                  <a:pt x="6918" y="12154"/>
                  <a:pt x="6918" y="14469"/>
                </a:cubicBezTo>
                <a:lnTo>
                  <a:pt x="8772" y="14469"/>
                </a:lnTo>
                <a:cubicBezTo>
                  <a:pt x="8772" y="13329"/>
                  <a:pt x="9695" y="12441"/>
                  <a:pt x="10800" y="12441"/>
                </a:cubicBezTo>
                <a:cubicBezTo>
                  <a:pt x="11905" y="12441"/>
                  <a:pt x="12837" y="13329"/>
                  <a:pt x="12837" y="14469"/>
                </a:cubicBezTo>
                <a:cubicBezTo>
                  <a:pt x="12837" y="15209"/>
                  <a:pt x="12367" y="15940"/>
                  <a:pt x="11905" y="15940"/>
                </a:cubicBezTo>
                <a:cubicBezTo>
                  <a:pt x="10800" y="15940"/>
                  <a:pt x="9695" y="17420"/>
                  <a:pt x="9695" y="18943"/>
                </a:cubicBezTo>
                <a:lnTo>
                  <a:pt x="9695" y="20901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900000" y="6381720"/>
            <a:ext cx="935280" cy="476280"/>
          </a:xfrm>
          <a:custGeom>
            <a:avLst/>
            <a:gdLst>
              <a:gd name="textAreaLeft" fmla="*/ 30600 w 935280"/>
              <a:gd name="textAreaRight" fmla="*/ 904680 w 935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2401" h="21600">
                <a:moveTo>
                  <a:pt x="0" y="0"/>
                </a:moveTo>
                <a:lnTo>
                  <a:pt x="42401" y="0"/>
                </a:lnTo>
                <a:lnTo>
                  <a:pt x="42401" y="21600"/>
                </a:lnTo>
                <a:lnTo>
                  <a:pt x="0" y="21600"/>
                </a:lnTo>
                <a:close/>
              </a:path>
              <a:path fill="lightenLess" w="42401" h="21600">
                <a:moveTo>
                  <a:pt x="0" y="0"/>
                </a:moveTo>
                <a:lnTo>
                  <a:pt x="42401" y="0"/>
                </a:lnTo>
                <a:lnTo>
                  <a:pt x="41001" y="1400"/>
                </a:lnTo>
                <a:lnTo>
                  <a:pt x="1400" y="1400"/>
                </a:lnTo>
                <a:close/>
              </a:path>
              <a:path fill="darken" w="42401" h="21600">
                <a:moveTo>
                  <a:pt x="42401" y="0"/>
                </a:moveTo>
                <a:lnTo>
                  <a:pt x="42401" y="21600"/>
                </a:lnTo>
                <a:lnTo>
                  <a:pt x="41001" y="20200"/>
                </a:lnTo>
                <a:lnTo>
                  <a:pt x="41001" y="1400"/>
                </a:lnTo>
                <a:close/>
              </a:path>
              <a:path fill="darkenLess" w="42401" h="21600">
                <a:moveTo>
                  <a:pt x="42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001" y="20200"/>
                </a:lnTo>
                <a:close/>
              </a:path>
              <a:path fill="lighten" w="42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401" h="21600">
                <a:moveTo>
                  <a:pt x="14194" y="3794"/>
                </a:moveTo>
                <a:lnTo>
                  <a:pt x="28207" y="10800"/>
                </a:lnTo>
                <a:lnTo>
                  <a:pt x="14194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Решение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1 способ                               а)    2 спос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250 : 10 = 325                                  3250кг  -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: 325 =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 0,123 )                    10кг    -     Х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= 400 : 3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=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( 0,123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Загрязнение атмосферы резиновой пыл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ляет 0,123% от общего загрязнения плане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10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500000000 = 5000000000 (кг) = 5000000 (тон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000000 : 20 = 25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Для того, чтобы вывезти это количество рези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адобилось бы 250000ваго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29272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667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411280" y="263700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8472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10800"/>
                </a:moveTo>
                <a:lnTo>
                  <a:pt x="24136" y="3794"/>
                </a:lnTo>
                <a:lnTo>
                  <a:pt x="24136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5564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3794"/>
                </a:moveTo>
                <a:lnTo>
                  <a:pt x="24960" y="10800"/>
                </a:lnTo>
                <a:lnTo>
                  <a:pt x="10947" y="17806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дача№6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ичество автомобилей за двадцатилетие увеличило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0 до 500 млн. штук. Загрязнение воздуха по 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транспорта выросло с 24%  до 40%  обще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я атмосфе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пределите увеличение % загрязн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ы и количества автомобилей в г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Установите через сколько лет не остан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того воздуха, если рост автопарка буд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олжаться таким же образом и он 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удет более экологич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789360"/>
            <a:ext cx="1295280" cy="230364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2303640"/>
              <a:gd name="textAreaBottom" fmla="*/ 2219760 h 2303640"/>
            </a:gdLst>
            <a:ahLst/>
            <a:rect l="textAreaLeft" t="textAreaTop" r="textAreaRight" b="textAreaBottom"/>
            <a:pathLst>
              <a:path w="21600" h="38411">
                <a:moveTo>
                  <a:pt x="0" y="0"/>
                </a:moveTo>
                <a:lnTo>
                  <a:pt x="21600" y="0"/>
                </a:lnTo>
                <a:lnTo>
                  <a:pt x="21600" y="38411"/>
                </a:lnTo>
                <a:lnTo>
                  <a:pt x="0" y="38411"/>
                </a:lnTo>
                <a:close/>
              </a:path>
              <a:path fill="lightenLess" w="21600" h="384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411">
                <a:moveTo>
                  <a:pt x="21600" y="0"/>
                </a:moveTo>
                <a:lnTo>
                  <a:pt x="21600" y="38411"/>
                </a:lnTo>
                <a:lnTo>
                  <a:pt x="20200" y="37011"/>
                </a:lnTo>
                <a:lnTo>
                  <a:pt x="20200" y="1400"/>
                </a:lnTo>
                <a:close/>
              </a:path>
              <a:path fill="darkenLess" w="21600" h="38411">
                <a:moveTo>
                  <a:pt x="21600" y="38411"/>
                </a:moveTo>
                <a:lnTo>
                  <a:pt x="0" y="38411"/>
                </a:lnTo>
                <a:lnTo>
                  <a:pt x="1400" y="37011"/>
                </a:lnTo>
                <a:lnTo>
                  <a:pt x="20200" y="37011"/>
                </a:lnTo>
                <a:close/>
              </a:path>
              <a:path fill="lighten" w="21600" h="38411">
                <a:moveTo>
                  <a:pt x="0" y="38411"/>
                </a:moveTo>
                <a:lnTo>
                  <a:pt x="0" y="0"/>
                </a:lnTo>
                <a:lnTo>
                  <a:pt x="1400" y="1400"/>
                </a:lnTo>
                <a:lnTo>
                  <a:pt x="1400" y="37011"/>
                </a:lnTo>
                <a:close/>
              </a:path>
              <a:path fill="darken" w="21600" h="38411">
                <a:moveTo>
                  <a:pt x="10800" y="2320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8411">
                <a:moveTo>
                  <a:pt x="11905" y="22687"/>
                </a:moveTo>
                <a:lnTo>
                  <a:pt x="11905" y="20728"/>
                </a:lnTo>
                <a:cubicBezTo>
                  <a:pt x="11905" y="19902"/>
                  <a:pt x="12236" y="19205"/>
                  <a:pt x="12837" y="19205"/>
                </a:cubicBezTo>
                <a:cubicBezTo>
                  <a:pt x="13968" y="19205"/>
                  <a:pt x="14865" y="17839"/>
                  <a:pt x="14865" y="16255"/>
                </a:cubicBezTo>
                <a:cubicBezTo>
                  <a:pt x="14865" y="13940"/>
                  <a:pt x="13011" y="12199"/>
                  <a:pt x="10800" y="12199"/>
                </a:cubicBezTo>
                <a:cubicBezTo>
                  <a:pt x="8589" y="12199"/>
                  <a:pt x="6918" y="13940"/>
                  <a:pt x="6918" y="16255"/>
                </a:cubicBezTo>
                <a:lnTo>
                  <a:pt x="8772" y="16255"/>
                </a:lnTo>
                <a:cubicBezTo>
                  <a:pt x="8772" y="15115"/>
                  <a:pt x="9695" y="14227"/>
                  <a:pt x="10800" y="14227"/>
                </a:cubicBezTo>
                <a:cubicBezTo>
                  <a:pt x="11905" y="14227"/>
                  <a:pt x="12837" y="15115"/>
                  <a:pt x="12837" y="16255"/>
                </a:cubicBezTo>
                <a:cubicBezTo>
                  <a:pt x="12837" y="16995"/>
                  <a:pt x="12367" y="17726"/>
                  <a:pt x="11905" y="17726"/>
                </a:cubicBezTo>
                <a:cubicBezTo>
                  <a:pt x="10800" y="17726"/>
                  <a:pt x="9695" y="19205"/>
                  <a:pt x="9695" y="20728"/>
                </a:cubicBezTo>
                <a:lnTo>
                  <a:pt x="9695" y="22687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10429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3794"/>
                </a:moveTo>
                <a:lnTo>
                  <a:pt x="26817" y="10800"/>
                </a:lnTo>
                <a:lnTo>
                  <a:pt x="12804" y="17806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Решени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5186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500 - 300 = 200                               40% - 25% = 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 : 20 = 10 (млн. штук)             15% : 20 = 0,7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Ежегодно количество автомобилей увеличивае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10 млн.штук, а загрязнение воздуха на 0,7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      1 способ.                                          2 спос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% - 40% = 60%                        100% - 40% =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% : 15% = 4                                 60% : 0,75%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= 80 (лет)                             6000 : 75 = 80 (ле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Через 80 лет чистого воздуха не останетс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рост числа автомобилей будет продолжаться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кими же темп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3490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104292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21" h="21600">
                <a:moveTo>
                  <a:pt x="12804" y="3794"/>
                </a:moveTo>
                <a:lnTo>
                  <a:pt x="26817" y="10800"/>
                </a:lnTo>
                <a:lnTo>
                  <a:pt x="12804" y="17806"/>
                </a:lnTo>
                <a:close/>
              </a:path>
            </a:pathLst>
          </a:cu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Содержание: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1" action="ppaction://hlinksldjump"/>
              </a:rPr>
              <a:t>Задача  №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2" action="ppaction://hlinksldjump"/>
              </a:rPr>
              <a:t>Задача  №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3" action="ppaction://hlinksldjump"/>
              </a:rPr>
              <a:t>Задача  №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Задача  №4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Задача  №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00"/>
                </a:solidFill>
                <a:latin typeface="Times New Roman"/>
              </a:rPr>
              <a:t>Задача  №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900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3794"/>
                </a:moveTo>
                <a:lnTo>
                  <a:pt x="29855" y="10800"/>
                </a:lnTo>
                <a:lnTo>
                  <a:pt x="15842" y="17806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73d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Правила нахождения: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% ОТ ЧИС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нужно  %  выразить дробью и числ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ДРОБИ ОТ ЧИСЛ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нужно число умножить на дроб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множить на эту дроб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ЧИСЛА ПО ЕГО ДРОБ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нужно число разделить на э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роб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ЧИСЛА ПО ЕГО %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ужно  % выразить дробь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число разделить на эту дроб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ЧАСТНОГО В  %</a:t>
            </a:r>
            <a:r>
              <a:rPr b="1" lang="en-US" sz="2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жно величины разделить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разить частное десятичной дробью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множить на 100, приписать знак 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Times New Roman"/>
              </a:rPr>
              <a:t>ИЗМЕНЕНИЕ ВЕЛИЧИНЫ В %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нужно из больш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еличины вычесть меньшую, результ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делить на нужную величину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множить на 100, приписать знак 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900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3794"/>
                </a:moveTo>
                <a:lnTo>
                  <a:pt x="29855" y="10800"/>
                </a:lnTo>
                <a:lnTo>
                  <a:pt x="15842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1414"/>
                </a:solidFill>
                <a:latin typeface="Times New Roman"/>
              </a:rPr>
              <a:t>Это должен знать каждый из нас…</a:t>
            </a:r>
            <a:r>
              <a:rPr b="0" lang="en-US" sz="3200" spc="-1" strike="noStrike">
                <a:solidFill>
                  <a:srgbClr val="b01414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827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 последние 20 лет общее количество автомобилей в мире увеличилось с 300млн. до 500млн. штук. Ежегодно автомобиль рассеивает в воздухе около 10 кг резины, расходует 4350 л кислорода и выбрасывает в атмосферу 3250 кг углекислого газа. Загрязнение воздуха по вине автотранспорта составляет около 40% общего загрязнения атмосферы Зем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4797360"/>
            <a:ext cx="1297080" cy="1079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44980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916360" y="4797360"/>
            <a:ext cx="2016000" cy="14400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900000" y="6237360"/>
            <a:ext cx="935280" cy="620640"/>
          </a:xfrm>
          <a:custGeom>
            <a:avLst/>
            <a:gdLst>
              <a:gd name="textAreaLeft" fmla="*/ 39960 w 935280"/>
              <a:gd name="textAreaRight" fmla="*/ 895320 w 935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44" h="21600">
                <a:moveTo>
                  <a:pt x="0" y="0"/>
                </a:moveTo>
                <a:lnTo>
                  <a:pt x="32544" y="0"/>
                </a:lnTo>
                <a:lnTo>
                  <a:pt x="32544" y="21600"/>
                </a:lnTo>
                <a:lnTo>
                  <a:pt x="0" y="21600"/>
                </a:lnTo>
                <a:close/>
              </a:path>
              <a:path fill="lightenLess" w="32544" h="21600">
                <a:moveTo>
                  <a:pt x="0" y="0"/>
                </a:moveTo>
                <a:lnTo>
                  <a:pt x="32544" y="0"/>
                </a:lnTo>
                <a:lnTo>
                  <a:pt x="31144" y="1400"/>
                </a:lnTo>
                <a:lnTo>
                  <a:pt x="1400" y="1400"/>
                </a:lnTo>
                <a:close/>
              </a:path>
              <a:path fill="darken" w="32544" h="21600">
                <a:moveTo>
                  <a:pt x="32544" y="0"/>
                </a:moveTo>
                <a:lnTo>
                  <a:pt x="32544" y="21600"/>
                </a:lnTo>
                <a:lnTo>
                  <a:pt x="31144" y="20200"/>
                </a:lnTo>
                <a:lnTo>
                  <a:pt x="31144" y="1400"/>
                </a:lnTo>
                <a:close/>
              </a:path>
              <a:path fill="darkenLess" w="32544" h="21600">
                <a:moveTo>
                  <a:pt x="32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44" y="20200"/>
                </a:lnTo>
                <a:close/>
              </a:path>
              <a:path fill="lighten" w="32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44" h="21600">
                <a:moveTo>
                  <a:pt x="9266" y="3794"/>
                </a:moveTo>
                <a:lnTo>
                  <a:pt x="23278" y="10800"/>
                </a:lnTo>
                <a:lnTo>
                  <a:pt x="9266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4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1414"/>
                </a:solidFill>
                <a:latin typeface="Times New Roman"/>
              </a:rPr>
              <a:t>Это должен знать каждый из нас</a:t>
            </a:r>
            <a:r>
              <a:rPr b="0" lang="en-US" sz="3200" spc="-1" strike="noStrike">
                <a:solidFill>
                  <a:srgbClr val="b01414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07552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зрослое дерево за сутки производи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80 л кислорода.  За последние 20 лет скор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рубки леса увеличилась  с 20 га в сут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до 44 га в час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4005360"/>
            <a:ext cx="2448000" cy="2663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465300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80360" y="501336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26920" y="6308640"/>
            <a:ext cx="792360" cy="549360"/>
          </a:xfrm>
          <a:custGeom>
            <a:avLst/>
            <a:gdLst>
              <a:gd name="textAreaLeft" fmla="*/ 35280 w 792360"/>
              <a:gd name="textAreaRight" fmla="*/ 757080 w 792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148" h="21600">
                <a:moveTo>
                  <a:pt x="0" y="0"/>
                </a:moveTo>
                <a:lnTo>
                  <a:pt x="31148" y="0"/>
                </a:lnTo>
                <a:lnTo>
                  <a:pt x="31148" y="21600"/>
                </a:lnTo>
                <a:lnTo>
                  <a:pt x="0" y="21600"/>
                </a:lnTo>
                <a:close/>
              </a:path>
              <a:path fill="lightenLess" w="31148" h="21600">
                <a:moveTo>
                  <a:pt x="0" y="0"/>
                </a:moveTo>
                <a:lnTo>
                  <a:pt x="31148" y="0"/>
                </a:lnTo>
                <a:lnTo>
                  <a:pt x="29748" y="1400"/>
                </a:lnTo>
                <a:lnTo>
                  <a:pt x="1400" y="1400"/>
                </a:lnTo>
                <a:close/>
              </a:path>
              <a:path fill="darken" w="31148" h="21600">
                <a:moveTo>
                  <a:pt x="31148" y="0"/>
                </a:moveTo>
                <a:lnTo>
                  <a:pt x="31148" y="21600"/>
                </a:lnTo>
                <a:lnTo>
                  <a:pt x="29748" y="20200"/>
                </a:lnTo>
                <a:lnTo>
                  <a:pt x="29748" y="1400"/>
                </a:lnTo>
                <a:close/>
              </a:path>
              <a:path fill="darkenLess" w="31148" h="21600">
                <a:moveTo>
                  <a:pt x="31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48" y="20200"/>
                </a:lnTo>
                <a:close/>
              </a:path>
              <a:path fill="lighten" w="31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48" h="21600">
                <a:moveTo>
                  <a:pt x="8568" y="3794"/>
                </a:moveTo>
                <a:lnTo>
                  <a:pt x="22581" y="10800"/>
                </a:lnTo>
                <a:lnTo>
                  <a:pt x="8568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4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ff05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дача №1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 автомобиль за год расходует 4350 л кислорода, одно взрослое дерево восстанавливает 180 л кислорода  за су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) Найдите отношение затрачен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мобилем кислорода к количеству,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которое будет восстановлено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) Какое количество деревьев необходимо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бы компенсировать потери кислорода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3284640"/>
            <a:ext cx="1224000" cy="273672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2736720"/>
              <a:gd name="textAreaBottom" fmla="*/ 2657520 h 2736720"/>
            </a:gdLst>
            <a:ahLst/>
            <a:rect l="textAreaLeft" t="textAreaTop" r="textAreaRight" b="textAreaBottom"/>
            <a:pathLst>
              <a:path w="21600" h="48287">
                <a:moveTo>
                  <a:pt x="0" y="0"/>
                </a:moveTo>
                <a:lnTo>
                  <a:pt x="21600" y="0"/>
                </a:lnTo>
                <a:lnTo>
                  <a:pt x="21600" y="48287"/>
                </a:lnTo>
                <a:lnTo>
                  <a:pt x="0" y="48287"/>
                </a:lnTo>
                <a:close/>
              </a:path>
              <a:path fill="lightenLess" w="21600" h="482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8287">
                <a:moveTo>
                  <a:pt x="21600" y="0"/>
                </a:moveTo>
                <a:lnTo>
                  <a:pt x="21600" y="48287"/>
                </a:lnTo>
                <a:lnTo>
                  <a:pt x="20200" y="46887"/>
                </a:lnTo>
                <a:lnTo>
                  <a:pt x="20200" y="1400"/>
                </a:lnTo>
                <a:close/>
              </a:path>
              <a:path fill="darkenLess" w="21600" h="48287">
                <a:moveTo>
                  <a:pt x="21600" y="48287"/>
                </a:moveTo>
                <a:lnTo>
                  <a:pt x="0" y="48287"/>
                </a:lnTo>
                <a:lnTo>
                  <a:pt x="1400" y="46887"/>
                </a:lnTo>
                <a:lnTo>
                  <a:pt x="20200" y="46887"/>
                </a:lnTo>
                <a:close/>
              </a:path>
              <a:path fill="lighten" w="21600" h="48287">
                <a:moveTo>
                  <a:pt x="0" y="48287"/>
                </a:moveTo>
                <a:lnTo>
                  <a:pt x="0" y="0"/>
                </a:lnTo>
                <a:lnTo>
                  <a:pt x="1400" y="1400"/>
                </a:lnTo>
                <a:lnTo>
                  <a:pt x="1400" y="46887"/>
                </a:lnTo>
                <a:close/>
              </a:path>
              <a:path fill="darken" w="21600" h="48287">
                <a:moveTo>
                  <a:pt x="10800" y="28147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48287">
                <a:moveTo>
                  <a:pt x="11905" y="27625"/>
                </a:moveTo>
                <a:lnTo>
                  <a:pt x="11905" y="25667"/>
                </a:lnTo>
                <a:cubicBezTo>
                  <a:pt x="11905" y="24840"/>
                  <a:pt x="12236" y="24144"/>
                  <a:pt x="12837" y="24144"/>
                </a:cubicBezTo>
                <a:cubicBezTo>
                  <a:pt x="13968" y="24144"/>
                  <a:pt x="14865" y="22777"/>
                  <a:pt x="14865" y="21193"/>
                </a:cubicBezTo>
                <a:cubicBezTo>
                  <a:pt x="14865" y="18878"/>
                  <a:pt x="13011" y="17137"/>
                  <a:pt x="10800" y="17137"/>
                </a:cubicBezTo>
                <a:cubicBezTo>
                  <a:pt x="8589" y="17137"/>
                  <a:pt x="6918" y="18878"/>
                  <a:pt x="6918" y="21193"/>
                </a:cubicBezTo>
                <a:lnTo>
                  <a:pt x="8772" y="21193"/>
                </a:lnTo>
                <a:cubicBezTo>
                  <a:pt x="8772" y="20053"/>
                  <a:pt x="9695" y="19165"/>
                  <a:pt x="10800" y="19165"/>
                </a:cubicBezTo>
                <a:cubicBezTo>
                  <a:pt x="11905" y="19165"/>
                  <a:pt x="12837" y="20053"/>
                  <a:pt x="12837" y="21193"/>
                </a:cubicBezTo>
                <a:cubicBezTo>
                  <a:pt x="12837" y="21933"/>
                  <a:pt x="12367" y="22664"/>
                  <a:pt x="11905" y="22664"/>
                </a:cubicBezTo>
                <a:cubicBezTo>
                  <a:pt x="10800" y="22664"/>
                  <a:pt x="9695" y="24144"/>
                  <a:pt x="9695" y="25667"/>
                </a:cubicBezTo>
                <a:lnTo>
                  <a:pt x="9695" y="27625"/>
                </a:lnTo>
                <a:close/>
              </a:path>
            </a:pathLst>
          </a:custGeom>
          <a:solidFill>
            <a:srgbClr val="bcf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cf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900000" y="6308640"/>
            <a:ext cx="935280" cy="549360"/>
          </a:xfrm>
          <a:custGeom>
            <a:avLst/>
            <a:gdLst>
              <a:gd name="textAreaLeft" fmla="*/ 35280 w 935280"/>
              <a:gd name="textAreaRight" fmla="*/ 900000 w 935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6764" h="21600">
                <a:moveTo>
                  <a:pt x="0" y="0"/>
                </a:moveTo>
                <a:lnTo>
                  <a:pt x="36764" y="0"/>
                </a:lnTo>
                <a:lnTo>
                  <a:pt x="36764" y="21600"/>
                </a:lnTo>
                <a:lnTo>
                  <a:pt x="0" y="21600"/>
                </a:lnTo>
                <a:close/>
              </a:path>
              <a:path fill="lightenLess" w="36764" h="21600">
                <a:moveTo>
                  <a:pt x="0" y="0"/>
                </a:moveTo>
                <a:lnTo>
                  <a:pt x="36764" y="0"/>
                </a:lnTo>
                <a:lnTo>
                  <a:pt x="35364" y="1400"/>
                </a:lnTo>
                <a:lnTo>
                  <a:pt x="1400" y="1400"/>
                </a:lnTo>
                <a:close/>
              </a:path>
              <a:path fill="darken" w="36764" h="21600">
                <a:moveTo>
                  <a:pt x="36764" y="0"/>
                </a:moveTo>
                <a:lnTo>
                  <a:pt x="36764" y="21600"/>
                </a:lnTo>
                <a:lnTo>
                  <a:pt x="35364" y="20200"/>
                </a:lnTo>
                <a:lnTo>
                  <a:pt x="35364" y="1400"/>
                </a:lnTo>
                <a:close/>
              </a:path>
              <a:path fill="darkenLess" w="36764" h="21600">
                <a:moveTo>
                  <a:pt x="3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64" y="20200"/>
                </a:lnTo>
                <a:close/>
              </a:path>
              <a:path fill="lighten" w="3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64" h="21600">
                <a:moveTo>
                  <a:pt x="11375" y="3794"/>
                </a:moveTo>
                <a:lnTo>
                  <a:pt x="25388" y="10800"/>
                </a:lnTo>
                <a:lnTo>
                  <a:pt x="11375" y="17806"/>
                </a:lnTo>
                <a:close/>
              </a:path>
            </a:pathLst>
          </a:custGeom>
          <a:solidFill>
            <a:srgbClr val="bcf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ff37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Решение.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 способ 1                                       а) способ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 180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65 = 65700                        1)  43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65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1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 4350 : 65700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87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1312 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87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7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: 180 =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4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 0,07 )                                                      ( 0,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Отношение затраченного автомобилем кислорода к восстановленному равно приблизительно 0,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хватит одного дере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347640" y="2997360"/>
            <a:ext cx="43020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7884720" y="220500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372000" y="299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027640" y="292428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cf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900000" y="6308640"/>
            <a:ext cx="863640" cy="549360"/>
          </a:xfrm>
          <a:custGeom>
            <a:avLst/>
            <a:gdLst>
              <a:gd name="textAreaLeft" fmla="*/ 35280 w 863640"/>
              <a:gd name="textAreaRight" fmla="*/ 828360 w 86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3949" h="21600">
                <a:moveTo>
                  <a:pt x="0" y="0"/>
                </a:moveTo>
                <a:lnTo>
                  <a:pt x="33949" y="0"/>
                </a:lnTo>
                <a:lnTo>
                  <a:pt x="33949" y="21600"/>
                </a:lnTo>
                <a:lnTo>
                  <a:pt x="0" y="21600"/>
                </a:lnTo>
                <a:close/>
              </a:path>
              <a:path fill="lightenLess" w="33949" h="21600">
                <a:moveTo>
                  <a:pt x="0" y="0"/>
                </a:moveTo>
                <a:lnTo>
                  <a:pt x="33949" y="0"/>
                </a:lnTo>
                <a:lnTo>
                  <a:pt x="32549" y="1400"/>
                </a:lnTo>
                <a:lnTo>
                  <a:pt x="1400" y="1400"/>
                </a:lnTo>
                <a:close/>
              </a:path>
              <a:path fill="darken" w="33949" h="21600">
                <a:moveTo>
                  <a:pt x="33949" y="0"/>
                </a:moveTo>
                <a:lnTo>
                  <a:pt x="33949" y="21600"/>
                </a:lnTo>
                <a:lnTo>
                  <a:pt x="32549" y="20200"/>
                </a:lnTo>
                <a:lnTo>
                  <a:pt x="32549" y="1400"/>
                </a:lnTo>
                <a:close/>
              </a:path>
              <a:path fill="darkenLess" w="33949" h="21600">
                <a:moveTo>
                  <a:pt x="3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9" y="20200"/>
                </a:lnTo>
                <a:close/>
              </a:path>
              <a:path fill="lighten" w="3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9" h="21600">
                <a:moveTo>
                  <a:pt x="9968" y="3794"/>
                </a:moveTo>
                <a:lnTo>
                  <a:pt x="23981" y="10800"/>
                </a:lnTo>
                <a:lnTo>
                  <a:pt x="9968" y="17806"/>
                </a:lnTo>
                <a:close/>
              </a:path>
            </a:pathLst>
          </a:custGeom>
          <a:solidFill>
            <a:srgbClr val="bcf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Задача №2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ичество автомобилей выросло 300 млн. до 500 млн. штук, скорость вырубки лесов выросла с 20 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сутки до 44 га в ч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) Определите во сколько раз выросл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ичество автомобилей и во сколько ра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еличилась скорость уничтожения ле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 последние два десятил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) Найдите изменение этих велич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оцентах .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3573360"/>
            <a:ext cx="1187280" cy="2482920"/>
          </a:xfrm>
          <a:custGeom>
            <a:avLst/>
            <a:gdLst>
              <a:gd name="textAreaLeft" fmla="*/ 76680 w 1187280"/>
              <a:gd name="textAreaRight" fmla="*/ 1110600 w 1187280"/>
              <a:gd name="textAreaTop" fmla="*/ 76680 h 2482920"/>
              <a:gd name="textAreaBottom" fmla="*/ 2406240 h 2482920"/>
            </a:gdLst>
            <a:ahLst/>
            <a:rect l="textAreaLeft" t="textAreaTop" r="textAreaRight" b="textAreaBottom"/>
            <a:pathLst>
              <a:path w="21600" h="45164">
                <a:moveTo>
                  <a:pt x="0" y="0"/>
                </a:moveTo>
                <a:lnTo>
                  <a:pt x="21600" y="0"/>
                </a:lnTo>
                <a:lnTo>
                  <a:pt x="21600" y="45164"/>
                </a:lnTo>
                <a:lnTo>
                  <a:pt x="0" y="45164"/>
                </a:lnTo>
                <a:close/>
              </a:path>
              <a:path fill="lightenLess" w="21600" h="451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5164">
                <a:moveTo>
                  <a:pt x="21600" y="0"/>
                </a:moveTo>
                <a:lnTo>
                  <a:pt x="21600" y="45164"/>
                </a:lnTo>
                <a:lnTo>
                  <a:pt x="20200" y="43764"/>
                </a:lnTo>
                <a:lnTo>
                  <a:pt x="20200" y="1400"/>
                </a:lnTo>
                <a:close/>
              </a:path>
              <a:path fill="darkenLess" w="21600" h="45164">
                <a:moveTo>
                  <a:pt x="21600" y="45164"/>
                </a:moveTo>
                <a:lnTo>
                  <a:pt x="0" y="45164"/>
                </a:lnTo>
                <a:lnTo>
                  <a:pt x="1400" y="43764"/>
                </a:lnTo>
                <a:lnTo>
                  <a:pt x="20200" y="43764"/>
                </a:lnTo>
                <a:close/>
              </a:path>
              <a:path fill="lighten" w="21600" h="45164">
                <a:moveTo>
                  <a:pt x="0" y="45164"/>
                </a:moveTo>
                <a:lnTo>
                  <a:pt x="0" y="0"/>
                </a:lnTo>
                <a:lnTo>
                  <a:pt x="1400" y="1400"/>
                </a:lnTo>
                <a:lnTo>
                  <a:pt x="1400" y="43764"/>
                </a:lnTo>
                <a:close/>
              </a:path>
              <a:path fill="darken" w="21600" h="45164">
                <a:moveTo>
                  <a:pt x="10800" y="26586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45164">
                <a:moveTo>
                  <a:pt x="11905" y="26064"/>
                </a:moveTo>
                <a:lnTo>
                  <a:pt x="11905" y="24105"/>
                </a:lnTo>
                <a:cubicBezTo>
                  <a:pt x="11905" y="23278"/>
                  <a:pt x="12236" y="22582"/>
                  <a:pt x="12837" y="22582"/>
                </a:cubicBezTo>
                <a:cubicBezTo>
                  <a:pt x="13968" y="22582"/>
                  <a:pt x="14865" y="21216"/>
                  <a:pt x="14865" y="19632"/>
                </a:cubicBezTo>
                <a:cubicBezTo>
                  <a:pt x="14865" y="17316"/>
                  <a:pt x="13011" y="15576"/>
                  <a:pt x="10800" y="15576"/>
                </a:cubicBezTo>
                <a:cubicBezTo>
                  <a:pt x="8589" y="15576"/>
                  <a:pt x="6918" y="17316"/>
                  <a:pt x="6918" y="19632"/>
                </a:cubicBezTo>
                <a:lnTo>
                  <a:pt x="8772" y="19632"/>
                </a:lnTo>
                <a:cubicBezTo>
                  <a:pt x="8772" y="18491"/>
                  <a:pt x="9695" y="17604"/>
                  <a:pt x="10800" y="17604"/>
                </a:cubicBezTo>
                <a:cubicBezTo>
                  <a:pt x="11905" y="17604"/>
                  <a:pt x="12837" y="18491"/>
                  <a:pt x="12837" y="19632"/>
                </a:cubicBezTo>
                <a:cubicBezTo>
                  <a:pt x="12837" y="20371"/>
                  <a:pt x="12367" y="21102"/>
                  <a:pt x="11905" y="21102"/>
                </a:cubicBezTo>
                <a:cubicBezTo>
                  <a:pt x="10800" y="21102"/>
                  <a:pt x="9695" y="22582"/>
                  <a:pt x="9695" y="24105"/>
                </a:cubicBezTo>
                <a:lnTo>
                  <a:pt x="9695" y="2606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0" y="6237360"/>
            <a:ext cx="971640" cy="620640"/>
          </a:xfrm>
          <a:custGeom>
            <a:avLst/>
            <a:gdLst>
              <a:gd name="textAreaLeft" fmla="*/ 39960 w 971640"/>
              <a:gd name="textAreaRight" fmla="*/ 931680 w 971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3809" h="21600">
                <a:moveTo>
                  <a:pt x="0" y="0"/>
                </a:moveTo>
                <a:lnTo>
                  <a:pt x="33809" y="0"/>
                </a:lnTo>
                <a:lnTo>
                  <a:pt x="33809" y="21600"/>
                </a:lnTo>
                <a:lnTo>
                  <a:pt x="0" y="21600"/>
                </a:lnTo>
                <a:close/>
              </a:path>
              <a:path fill="lightenLess" w="33809" h="21600">
                <a:moveTo>
                  <a:pt x="0" y="0"/>
                </a:moveTo>
                <a:lnTo>
                  <a:pt x="33809" y="0"/>
                </a:lnTo>
                <a:lnTo>
                  <a:pt x="32409" y="1400"/>
                </a:lnTo>
                <a:lnTo>
                  <a:pt x="1400" y="1400"/>
                </a:lnTo>
                <a:close/>
              </a:path>
              <a:path fill="darken" w="33809" h="21600">
                <a:moveTo>
                  <a:pt x="33809" y="0"/>
                </a:moveTo>
                <a:lnTo>
                  <a:pt x="33809" y="21600"/>
                </a:lnTo>
                <a:lnTo>
                  <a:pt x="32409" y="20200"/>
                </a:lnTo>
                <a:lnTo>
                  <a:pt x="32409" y="1400"/>
                </a:lnTo>
                <a:close/>
              </a:path>
              <a:path fill="darkenLess" w="33809" h="21600">
                <a:moveTo>
                  <a:pt x="338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09" y="20200"/>
                </a:lnTo>
                <a:close/>
              </a:path>
              <a:path fill="lighten" w="338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09" h="21600">
                <a:moveTo>
                  <a:pt x="9898" y="10800"/>
                </a:moveTo>
                <a:lnTo>
                  <a:pt x="23911" y="3794"/>
                </a:lnTo>
                <a:lnTo>
                  <a:pt x="23911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900000" y="6237360"/>
            <a:ext cx="863640" cy="620640"/>
          </a:xfrm>
          <a:custGeom>
            <a:avLst/>
            <a:gdLst>
              <a:gd name="textAreaLeft" fmla="*/ 39960 w 863640"/>
              <a:gd name="textAreaRight" fmla="*/ 823680 w 863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0052" h="21600">
                <a:moveTo>
                  <a:pt x="0" y="0"/>
                </a:moveTo>
                <a:lnTo>
                  <a:pt x="30052" y="0"/>
                </a:lnTo>
                <a:lnTo>
                  <a:pt x="30052" y="21600"/>
                </a:lnTo>
                <a:lnTo>
                  <a:pt x="0" y="21600"/>
                </a:lnTo>
                <a:close/>
              </a:path>
              <a:path fill="lightenLess" w="30052" h="21600">
                <a:moveTo>
                  <a:pt x="0" y="0"/>
                </a:moveTo>
                <a:lnTo>
                  <a:pt x="30052" y="0"/>
                </a:lnTo>
                <a:lnTo>
                  <a:pt x="28652" y="1400"/>
                </a:lnTo>
                <a:lnTo>
                  <a:pt x="1400" y="1400"/>
                </a:lnTo>
                <a:close/>
              </a:path>
              <a:path fill="darken" w="30052" h="21600">
                <a:moveTo>
                  <a:pt x="30052" y="0"/>
                </a:moveTo>
                <a:lnTo>
                  <a:pt x="30052" y="21600"/>
                </a:lnTo>
                <a:lnTo>
                  <a:pt x="28652" y="20200"/>
                </a:lnTo>
                <a:lnTo>
                  <a:pt x="28652" y="1400"/>
                </a:lnTo>
                <a:close/>
              </a:path>
              <a:path fill="darkenLess" w="30052" h="21600">
                <a:moveTo>
                  <a:pt x="30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52" y="20200"/>
                </a:lnTo>
                <a:close/>
              </a:path>
              <a:path fill="lighten" w="30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52" h="21600">
                <a:moveTo>
                  <a:pt x="8020" y="3794"/>
                </a:moveTo>
                <a:lnTo>
                  <a:pt x="22033" y="10800"/>
                </a:lnTo>
                <a:lnTo>
                  <a:pt x="8020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Решение.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500 : 300 = 1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1,66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4 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24 = 10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56 : 20 = 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) За последние два десятилетия количе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мобилей увеличилось в 1,67 раз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скорость вырубки лесов в 528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 500 – 300 = 200                              1056 – 20 = 10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 : 300 =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 0,66…)                1036 : 20 = 51,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0,67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00% = 67%                         51,8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% = 51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)Количество автомобилей выросло на 67%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рость вырубки лесов возросла на 5180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059280" y="1989000"/>
            <a:ext cx="217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916360" y="479736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26920" y="6308640"/>
            <a:ext cx="865440" cy="549360"/>
          </a:xfrm>
          <a:custGeom>
            <a:avLst/>
            <a:gdLst>
              <a:gd name="textAreaLeft" fmla="*/ 35280 w 865440"/>
              <a:gd name="textAreaRight" fmla="*/ 830160 w 8654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3" y="3794"/>
                </a:moveTo>
                <a:lnTo>
                  <a:pt x="24016" y="10800"/>
                </a:lnTo>
                <a:lnTo>
                  <a:pt x="10003" y="17806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6:28:33Z</dcterms:created>
  <dc:creator>Sergafan</dc:creator>
  <dc:description/>
  <dc:language>en-US</dc:language>
  <cp:lastModifiedBy>Надежда</cp:lastModifiedBy>
  <dcterms:modified xsi:type="dcterms:W3CDTF">2009-11-26T07:31:17Z</dcterms:modified>
  <cp:revision>30</cp:revision>
  <dc:subject/>
  <dc:title>Слайд 1</dc:title>
</cp:coreProperties>
</file>